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E04-D353-4A7E-9414-AB333469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8C7-D57E-4BF5-870E-214C27D9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18B-35C5-4A71-85FA-0FF0921E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CBF-7592-4669-A485-429E4B8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6CC-406B-4331-8A27-434B37B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B88-33DC-40E3-BA6F-C6DF0009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077-0A35-4D2F-8ED3-7218E5CB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5B9-4396-41AF-A798-D457E7D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E6E-C028-4498-905E-1026C93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1D9-692C-4C5B-AE44-215325D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892-793E-401E-8E50-1AE79CB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FCE-E1CF-44BB-B173-D4FC32E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5336-2CC5-46E9-A7CC-6748BAB8E85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hbarweb.org.tr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dogancio.meb.k12.t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İNTERNET NEDİ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2133720"/>
            <a:ext cx="7705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n, dünya üzerindeki birbiriyle bağlantılı milyonlarca bilgisayardan herhangi birisiyle veri, ileti ve dosya alış verişi yapmanıza olanak sağlayan, bilgisayarlar sistemidir. Kısaca dünya üzerindeki bilgisayar ağı olarak tanımlanmakta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9280" y="4581360"/>
            <a:ext cx="896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ğımızın en güçlü kitle iletişim kaynaklarından biri olan bilgisayarlar ve yaşamımıza birden bire giren internet, bugün bilgilenme, işlem yürütme, haberleşme, eğitim ve eğlence fonksiyonlarıyla hayatımızın ayrılmaz bir parçası olmuşt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ARKADAŞINIZI SİZ BELİRLEYİ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ortamında sadece tanıdığınız kişilerle sohbet edin ve iletişin kuru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nımadığınız kişilerin internetten yaptığı arkadaşlık tekliflerini redd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sitelerinde yer alan oyunlara, aktivitelere, yarışmalara katılmadan önce mutlaka ailenize ve öğretmenlerinize danış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tanıştığınız yabancılarla ailenizin bilgisi olmadan yüz yüze görüşmeyin, buluşmayı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0" y="2928960"/>
            <a:ext cx="20718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KİMLİĞİNİZİ VE KİŞİLİĞİNİZİ KORUY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C Kimlik numaranızı, adresinizi, telefonunuzu, okulunuzun adı, anne, babanızın iş adreslerini ve iş telefonlarını yabancılarla payla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 üstünden kendi ve ailenizin resimlerini, video görüntülerini yabancılara gönde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Yabancılarla web kamera kullanarak konuş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Nasıl ki evimize yabancı birisini alıp, paylaşmıyorsak internetin bu yapmasına müsaade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99240" y="2357280"/>
            <a:ext cx="2444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HAYIR DEME HAKINIZI VE </a:t>
            </a:r>
            <a:br>
              <a:rPr sz="3500"/>
            </a:br>
            <a:r>
              <a:rPr b="1" lang="tr-TR" sz="3500" spc="-1" strike="noStrike">
                <a:solidFill>
                  <a:srgbClr val="ffffff"/>
                </a:solidFill>
                <a:latin typeface="Arial"/>
              </a:rPr>
              <a:t>ÖZGÜRLÜĞÜNÜZÜ KULLAN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7358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iken sizi rahatsız eden, görüntü, ses ve yazılara rastladığımızda hemen internet kullanımını bırak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Rahatsız edildiğinizde karşılık vermeyin. Hemen ve hiç çekinmeden ailenize haber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311960" y="2286000"/>
            <a:ext cx="183204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6 Metin kutusu"/>
          <p:cNvSpPr/>
          <p:nvPr/>
        </p:nvSpPr>
        <p:spPr>
          <a:xfrm>
            <a:off x="214200" y="4286160"/>
            <a:ext cx="87156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ararlı ve rahatsız edici internet sitelerini </a:t>
            </a:r>
            <a:r>
              <a:rPr b="0" lang="tr-TR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hbarweb.org.tr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 adresine yada </a:t>
            </a: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0312-5828282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numaralı telefona hemen şikayet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leri rahatsız eden kişilere cevap vermeyin ya da onları yetkililere şikayet ederek cevapl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CÜZDANINIZI HIRSIZLARDA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1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ne ve babanızdan izin almadan yada onlar yanınızda olmadan internetten alışveriş yapmayı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Unutmayın, internette kredi kartı bilgilerini karşı tarafa vermek, cüzdanınızı tanımadığınız bir kişiye emanet etmek gibi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286680" y="2643120"/>
            <a:ext cx="2476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E-POSTALARINIZI KORUY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fresi kolay e-posta adresleri güvenli değildir. Bu nedenle e-posta adresiniz için güvenli şifreler oluşt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enmeyen e-postaları önlemek ve gereksiz mesaj trafiği oluşturmamak için internette güvenmediğiniz sitelere kayıt ol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2676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, vücuduna bulaşıcı mikrop girmiş ve grip hastalığına yakalanmış olan insana benz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irüslü bilgisayar nezle olmuş insan gibi yorgun ve halsiz çalış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19720" y="1857240"/>
            <a:ext cx="29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9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SAYARINIZI VİRÜSLERDEN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Dikdörtgen"/>
          <p:cNvSpPr/>
          <p:nvPr/>
        </p:nvSpPr>
        <p:spPr>
          <a:xfrm>
            <a:off x="357120" y="2052720"/>
            <a:ext cx="8358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yle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ınıza mutlaka antivirüs programı ku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az haftada bir kez antivirüs programınızı güncelley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üvenli olmayan internet sitelerinden dosya, müzik veya film indi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emli dosyalarınızı mutlaka yedekl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nutmayı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hastalığın en etkili ilacı o hastalığa yakalanmamak için önceden önlem a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İLGİLERİNİZİ ÇALMAYA GELEN HIRSIZLARA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840" y="1957320"/>
            <a:ext cx="5829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pam (istenmeyen epostalar) okumamız için başucunuza zarf bırakıp giden maskeli hırsızlara ben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arfı merak edip açtığınızda ve mektuptaki istekleri yerine getirdiğinizde tüm bilgilerinizi çalmış olabili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şekilde gelen istenmeyen e-postaları kabul etmeyin ve hiç okumadan si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stemediğiniz halde size ulaşan e-postaları asla arkadaşlarınıza ilet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248520" y="2143080"/>
            <a:ext cx="289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TRUVA ATI BİLGİSAYARINIZI ESİR ALM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ruva atı sinsi bir programdı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eyi içten fethetmek için kılık değiştirerek kaleye girmiş askerlere benz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Önce kendisini masum bir müzik, film yada oyun dosyası olarak tanıtır, kabul ettiğinizde bilgisayarınızın yönetimini sinsice ele geçir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O hal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venli olmayan bilmediğiniz internet sitelerine g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öyle sitelerden dosya indir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ftalık virüs taramanızı ihmal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35680" y="1643040"/>
            <a:ext cx="230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-71640"/>
            <a:ext cx="90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IRSIZ VE YANKESİCİLERE DİK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65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ırsız ve yankesiciler şöyle çalış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olandırıcılar bir banka yada finans kurumunun internet sitesinin herşeyini tamamen taklit ederek sizi e-posta gönder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zden banka kart numarası ve şifresi gibi bilgiler iste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yle e-postaları kesinlikle cevaplam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616800" y="2214720"/>
            <a:ext cx="2527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müzde her binada elektrik, su ve telefon şebekesi ne kadar zorunlu ise Internet bağlantısı da artık bir zorunluluk haline gelmişti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Günün her saatinde her türlü bilgi alışverişi ve iletişimi sağlayan olağanüstü bir buluş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i="1" lang="tr-TR" sz="2500" spc="-1" strike="noStrike">
                <a:solidFill>
                  <a:srgbClr val="333399"/>
                </a:solidFill>
                <a:latin typeface="Arial"/>
              </a:rPr>
              <a:t>`küçük bir çakı bıçağı ile çok güzel iş de yapabilirsiniz, bir insanı da öldürebilirsiniz`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4648320" y="2238480"/>
          <a:ext cx="4038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38480"/>
                    <a:ext cx="4038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30560" y="2903400"/>
            <a:ext cx="69134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Selim\Desktop\logomuz.jpg"/>
          <p:cNvPicPr/>
          <p:nvPr/>
        </p:nvPicPr>
        <p:blipFill>
          <a:blip r:embed="rId1"/>
          <a:stretch/>
        </p:blipFill>
        <p:spPr>
          <a:xfrm>
            <a:off x="3214800" y="1785960"/>
            <a:ext cx="292896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6 Metin kutusu"/>
          <p:cNvSpPr/>
          <p:nvPr/>
        </p:nvSpPr>
        <p:spPr>
          <a:xfrm>
            <a:off x="0" y="492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NCI İLKÖĞRETİM OK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ogancio.meb.k12.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elim Baykö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5840" y="1857240"/>
            <a:ext cx="62863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ten yararlanmak sizin temel hakkınızd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sizi istediğiniz yere götüren uçan halı gib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dünyaya açılan büyük bir özgürlük penceresi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İnternet hava gibidir. Değeri ancak yokluğunda anlaşıl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O halde çocuklar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linmeyen yerlere açılan ve sizi davet eden her kapıdan içeri girecek misiniz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643800" y="21430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5 Metin kutusu"/>
          <p:cNvSpPr/>
          <p:nvPr/>
        </p:nvSpPr>
        <p:spPr>
          <a:xfrm>
            <a:off x="0" y="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VENLİ İNTERNET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4200" y="1957320"/>
            <a:ext cx="5786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abi ki hayır 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ünkü sizin seçme özgürlüğünüz var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kapının ardında yolculuk yap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Hangi pencereden yıldızları seyredeceğiniz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Engin ufaklara doğru hangi halı üzerinde uçacağın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Siz karar vereceks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458040" y="2428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5 Metin kutusu"/>
          <p:cNvSpPr/>
          <p:nvPr/>
        </p:nvSpPr>
        <p:spPr>
          <a:xfrm>
            <a:off x="285840" y="2142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z Karar Vereceksin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57120" y="2357280"/>
            <a:ext cx="5715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Arial"/>
              </a:rPr>
              <a:t>Öyleyse arkadaşlar öncelikle güvenli bir internet yolculuğu için kullanıcı kaptanın dikkat etmesi gereken konuları birlikte hatırlayalım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86680" y="2857680"/>
            <a:ext cx="2170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ZAMANI SİZ YÖNET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920" y="20718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man sizin en değerli varlığınız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ve bilgisayar başında kalacağınız zamanı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y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yarlay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in zamanınızı çalmasına izin vermey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ışarıda oyun oynamak, sevdiğiniz sporları yapmak, ailenizle beraber vakit geçirmek, derslerinizi yapmak ve kitap okumak için kendinize zaman ayır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210440" y="2786040"/>
            <a:ext cx="1933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 Black"/>
              </a:rPr>
              <a:t>VÜCUT SAĞLIĞINIZI KORUY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karşısında dik oturun; sırtınızı destekleyecek bir sandalye veya oturma alanı seç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ınızı aydınlık ortamlarda kullan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ilgisayar önünde uzun süreli hareketsiz kalma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000920" y="3214800"/>
            <a:ext cx="18669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ERİ SİZ BELİRLEY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1788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nne ve babanıza karşı açık, şeffaf ve dürüst olu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te gezinmek için eviniz ve ailenizle birlikte oturduğunuz odayı tercih ed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terneti başka yerde kullanıyorsanız bu yerin neresi olduğu hakkında ailenizi bilgilendi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12 yaşında küçükseniz velinizi yanınıza almadan internet kafelere gi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57960" y="2357280"/>
            <a:ext cx="2628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GİRECEĞİNİZ  KAPIYI,  </a:t>
            </a:r>
            <a:br>
              <a:rPr sz="3000"/>
            </a:br>
            <a:r>
              <a:rPr b="1" lang="tr-TR" sz="3000" spc="-1" strike="noStrike">
                <a:solidFill>
                  <a:srgbClr val="ffffff"/>
                </a:solidFill>
                <a:latin typeface="Arial"/>
              </a:rPr>
              <a:t> BAKACAĞINIZ PENCEREYİ  İYİ  SEÇ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Ziyaret edeceğiniz internet sitelerini aileniz yada öğretmenlerinizle birlikte siz belir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 internet sitelerini, ailenize ya da öğretmenlerinize sormadan ziyaret etm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ze teklif edilenlere değil ailenizin ya da öğretmenlerinizin tavsiyelerine önem ver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Ailenizle ya da öğretmenlerinizle birlikte güvenli olduğunu tespit ettiğiniz internet sitelerini bilgisayarınızın “Sık Kullanılanlar” bölümüne ekley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24520" y="292896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0:46:43Z</dcterms:created>
  <dc:creator>Exper Computer</dc:creator>
  <dc:description/>
  <dc:language>en-US</dc:language>
  <cp:lastModifiedBy>Selim</cp:lastModifiedBy>
  <dcterms:modified xsi:type="dcterms:W3CDTF">2010-04-05T15:14:34Z</dcterms:modified>
  <cp:revision>16</cp:revision>
  <dc:subject/>
  <dc:title>Slayt 1</dc:title>
</cp:coreProperties>
</file>